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870-DC2D-4086-80C9-9AA42D71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408-F555-47CF-82D8-6CB4D183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C42-C2C0-48FE-B077-FDCC4CB5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467-BBA2-44CE-B97C-35CF6F56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8C0-0D8B-442B-84D0-D9DA909D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D09-6889-4C5F-9C17-18A1E537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919-D2D9-4ABA-8390-3CBD4CF7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8B8-9625-4EFE-ADF8-779B2C8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2D9-D8BA-4399-BF01-5E2F38A4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4E9-FA59-4AFD-99FF-82099F3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00D-12A6-4A31-8E65-BC55F84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748-89C4-44DC-960C-F8E55779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95B7-4FDB-42A5-8B60-59ADC584B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in Multi-Ethinic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5 Lack of opportunities for social interaction (Edu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. Ireland, there are fully-funded public schools that cater to Protestant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lso private schools that cater to Catholic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schools for Catholics are partly funded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5 Lack of opportunities for social interaction (Edu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chool students are taught British history, play British sports and are very loyal to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 children learn Irish history, play Irish sports and are taught Irish language and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regard Britain as a foreign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5 Lack of opportunities for social interaction (Edu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integrated schools for both Protestants and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5% of the school-going population go to thes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5 Lack of opportunities for social interaction (Residen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Catholics and Protestants live in separate residenti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census shows that in Belfast, 63% lived in areas that were either mainly Catholic or Prote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1, the figure rose to 6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duces opportunities for socia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the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 Divided Loy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2 Unequal allocation of 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 Unequal employmen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 Lack of voting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5 Lack of opportunities for socia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Divided Loya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in Political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 see themselves as British and want to remain in the United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 do not want a union with the Republic of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 fear that the Catholic government in Ireland would not be tolerant of their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Divided Loya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see themselves as Irish and want to reunite with the Republic of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still resent English con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oyalties make Protestants and Catholics intolerant of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2 Unequal allocation of ho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housing is provided by city cou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cils usually consist largely of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housing is partially paid for by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2 Unequal allocation of ho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Catholics families in need of housing have to wait a long time to get 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ouses given to Protestants than Catholics in some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frustrated as they have to wait many years for their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nd Sources on housing found on pg 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3 Unequal employment opportunit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it is more difficult for Catholics to find jobs, esp. government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have the same academic qualifications as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feel that they do not have the same opportunities in getting the jobs they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graph on pg 1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4 Lack of voting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1969, Voting rights was an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house owners and businesses were entitled to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ousehold got 2 votes and companies got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anies owned by rich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districts were drawn to include a larger proportion of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4 Lack of voting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69, everyone is entitled to one vote as long as he is a British citizen above 18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districts were also redrawn to ensure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1:27:46Z</dcterms:created>
  <dc:creator>moe</dc:creator>
  <dc:description/>
  <dc:language>en-US</dc:language>
  <cp:lastModifiedBy>moe</cp:lastModifiedBy>
  <dcterms:modified xsi:type="dcterms:W3CDTF">2009-02-01T01:46:18Z</dcterms:modified>
  <cp:revision>2</cp:revision>
  <dc:subject/>
  <dc:title>Conflict in Multi-Ethinic Societies</dc:title>
</cp:coreProperties>
</file>